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1449-0A2B-490B-A3BD-D9EC92FA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A58D-6B52-422E-B118-540E306F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95D6-5A11-4BDA-BA53-57EEDE1E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EA6-70CB-4C01-B8D9-7AD60D0E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AF96-724B-44AF-8ADE-61BE57D3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C362-652D-4E5F-9B00-EB5300B1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6B5C-3A58-4773-A5DE-225F476E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D161-0514-4360-A5A0-80591D85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5E1F-5283-4545-A0EA-3814A2EF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2179-EA40-4EFC-B08B-C7A296E4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AC75-4911-4E9E-A525-549A8D40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081-BB96-4D66-AAB2-2DFAB1D7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271B-9386-478A-8F97-3FF74799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2C51-13E1-42DE-AAAF-FADEB6AB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0C55-8207-43E2-B394-396B0315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5C3C-7386-4E6D-B9F2-8206624C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276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8600" y="11250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728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276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8600" y="3736800"/>
            <a:ext cx="2414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1C6E-13E6-43DF-8D90-1C8235DE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AAE-FA2A-4DD0-A8DF-E9C45B99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95FE-56C6-465B-B966-919B3772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3C10-072D-4203-BDA5-CCEDD7F9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864216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50A1-DB79-4510-8D64-B79F6BCD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108-8D04-47D1-A42D-ABADF21E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0280" y="37368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F87-D6AA-46B3-B220-0E27229A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0280" y="1125000"/>
            <a:ext cx="36597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3736800"/>
            <a:ext cx="7499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74A-ACA9-4F5B-8756-B2CE5D93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7BDE-5ED7-4B2A-A4AD-0BA1D7480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87280" y="1125000"/>
            <a:ext cx="7499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27F3-3E19-49AB-AAD3-3760A00977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lideshare.net/metodicar4/list-12009603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grb"/>
          <p:cNvPicPr/>
          <p:nvPr/>
        </p:nvPicPr>
        <p:blipFill>
          <a:blip r:embed="rId1"/>
          <a:stretch/>
        </p:blipFill>
        <p:spPr>
          <a:xfrm>
            <a:off x="301680" y="266760"/>
            <a:ext cx="527040" cy="3794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Завод за унапређивање образовања и васпи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08000" y="1341360"/>
            <a:ext cx="287964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утор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ставни предм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зрас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059280" y="1341360"/>
            <a:ext cx="5976720" cy="3959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јан Бошковић, 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Иво Андрић“, Бе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Љиљана Рајчић, 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Иво Андрић“, Бе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лан Андрић, О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Иво Андрић“, Бео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ологија, математика и ликовна кул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 у биологији, математици и ум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ти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1905120" y="5791320"/>
            <a:ext cx="1655640" cy="934920"/>
          </a:xfrm>
          <a:prstGeom prst="wedgeRoundRectCallout">
            <a:avLst>
              <a:gd name="adj1" fmla="val -77421"/>
              <a:gd name="adj2" fmla="val -40152"/>
              <a:gd name="adj3" fmla="val 16667"/>
            </a:avLst>
          </a:prstGeom>
          <a:solidFill>
            <a:srgbClr val="ffff99">
              <a:alpha val="63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Verdana"/>
              </a:rPr>
              <a:t>Кликните овде за унос приказа часа у </a:t>
            </a:r>
            <a:r>
              <a:rPr b="0" lang="sr-Latn-CS" sz="1200" spc="-1" strike="noStrike">
                <a:solidFill>
                  <a:srgbClr val="000000"/>
                </a:solidFill>
                <a:latin typeface="Verdana"/>
              </a:rPr>
              <a:t>Word </a:t>
            </a:r>
            <a:r>
              <a:rPr b="0" lang="sr-CS" sz="1200" spc="-1" strike="noStrike">
                <a:solidFill>
                  <a:srgbClr val="000000"/>
                </a:solidFill>
                <a:latin typeface="Verdana"/>
              </a:rPr>
              <a:t>докумен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8"/>
          <p:cNvGraphicFramePr/>
          <p:nvPr/>
        </p:nvGraphicFramePr>
        <p:xfrm>
          <a:off x="1530360" y="1393920"/>
          <a:ext cx="6083280" cy="407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1393920"/>
                    <a:ext cx="6083280" cy="40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7"/>
          <p:cNvSpPr/>
          <p:nvPr/>
        </p:nvSpPr>
        <p:spPr>
          <a:xfrm>
            <a:off x="6732720" y="6453360"/>
            <a:ext cx="2411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Креативна школа 201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/1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9"/>
          <p:cNvGraphicFramePr/>
          <p:nvPr/>
        </p:nvGraphicFramePr>
        <p:xfrm>
          <a:off x="357120" y="5500800"/>
          <a:ext cx="1440000" cy="1214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1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120" y="5500800"/>
                    <a:ext cx="144000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О р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484280" y="1357200"/>
            <a:ext cx="74898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У савременом свету је критичко мишљење више од потребе. Научним незнањем се манипулише, а сама наука се котира ниже него што то заслужује. Ми смо уверени да школа треба да поврати углед науци и да развија критичко мишљење. И уверени смо да се оба циља постижу интердисциплинарним приступом, а који обезбеђује сагледавање проблема из више углова. Уосталом, разлог за некритичко мишљење је површно прихватање само једног гледиш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Наша тема рада је лист, али се надамо да ће бити схваћена као пример. Јер, сваки објекат, појава или процес треба бити сагледан управо на овај начин; кроз потпуни и прожимајући метод и садржај више наука (у нашем случају биологије и математике), уз креативност коју нуде уметности (у нашем случају ликовна култур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:\Users\Deki\Desktop\leaf.gif"/>
          <p:cNvPicPr/>
          <p:nvPr/>
        </p:nvPicPr>
        <p:blipFill>
          <a:blip r:embed="rId1"/>
          <a:stretch/>
        </p:blipFill>
        <p:spPr>
          <a:xfrm>
            <a:off x="6286680" y="357120"/>
            <a:ext cx="221436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Апстракт – први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484280" y="1357200"/>
            <a:ext cx="74898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На првом часу уз биолош</a:t>
            </a:r>
            <a:r>
              <a:rPr b="0" lang="sr-RS" sz="1600" spc="-1" strike="noStrike">
                <a:solidFill>
                  <a:srgbClr val="000000"/>
                </a:solidFill>
                <a:latin typeface="Arial Black"/>
              </a:rPr>
              <a:t>ко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предавање о листу на ПП презентацији (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 Black"/>
                <a:hlinkClick r:id="rId1"/>
              </a:rPr>
              <a:t>http://www.slideshare.net/metodicar4/list-12009603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, ђаци су дисековали лист; посматрали га и проучавали, те на тај начин одмах примењивали знања која су им презентова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Након тога је уследило кратко предавање из математике. Наизглед неспојиве теме, брзо су постале очигледно повезане; ђаци су излазили на таблу и на примерима фигура одређивали осу симетрије. Убрзо је и лишће које су до тада проучавали са биолошког угла, постало фигура која има или нема осу симетриј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Веза је успостављена. :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E:\biljke\slike1\list2 (Copy).JPG"/>
          <p:cNvPicPr/>
          <p:nvPr/>
        </p:nvPicPr>
        <p:blipFill>
          <a:blip r:embed="rId2"/>
          <a:stretch/>
        </p:blipFill>
        <p:spPr>
          <a:xfrm>
            <a:off x="6381720" y="4786200"/>
            <a:ext cx="2619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Апстракт – други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484280" y="1214280"/>
            <a:ext cx="344484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Други час је замишљен као радионица – биолошко-математичка. Новина је што су ђаци добили до тада невиђене радне листове; хербаријуме. На свакој страни хербаријума био је написан задатак који обједињује вежбање одређивања осне симетрије и знања стечена о грађи ли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E:\biljke\slike1\druga.JPG"/>
          <p:cNvPicPr/>
          <p:nvPr/>
        </p:nvPicPr>
        <p:blipFill>
          <a:blip r:embed="rId1"/>
          <a:stretch/>
        </p:blipFill>
        <p:spPr>
          <a:xfrm>
            <a:off x="4929120" y="1214280"/>
            <a:ext cx="379404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 Black"/>
              </a:rPr>
              <a:t>Апстракт – трећи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484280" y="1357200"/>
            <a:ext cx="74898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Трећи час је такође била радионица, али овог пута уметничка. Ђаци су подељени у четири групе. Две од тих четири су учествовале у креативном експерименту. Сецкали су облике које су сами направили и лепили на листове биљака у саксији. За домаћи задатак су постали научници који прате промене на листу. Очекивања су да ће лист посветлети на месту где се неколико дана налазио облик, а због губитка хлорофила. На тај начин обновили су знања о улогама ли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Преостале две групе су имале задатак да уочавају грађу листа и да реално или маштовито представе оно што су вид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E:\biljke\slike1\IMG_0587 (Copy).jpg"/>
          <p:cNvPicPr/>
          <p:nvPr/>
        </p:nvPicPr>
        <p:blipFill>
          <a:blip r:embed="rId1"/>
          <a:stretch/>
        </p:blipFill>
        <p:spPr>
          <a:xfrm>
            <a:off x="6000840" y="4572000"/>
            <a:ext cx="2714400" cy="2035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E:\biljke\slike1\IMG_0612 (Copy).jpg"/>
          <p:cNvPicPr/>
          <p:nvPr/>
        </p:nvPicPr>
        <p:blipFill>
          <a:blip r:embed="rId2"/>
          <a:stretch/>
        </p:blipFill>
        <p:spPr>
          <a:xfrm>
            <a:off x="1928880" y="4643280"/>
            <a:ext cx="25002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8:24:37Z</dcterms:created>
  <dc:creator>Milos M.</dc:creator>
  <dc:description/>
  <dc:language>en-US</dc:language>
  <cp:lastModifiedBy>Deki</cp:lastModifiedBy>
  <dcterms:modified xsi:type="dcterms:W3CDTF">2012-03-14T23:10:35Z</dcterms:modified>
  <cp:revision>15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