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8EC8-A473-43DD-B3E8-1FE17AD70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D053-E11A-4038-95C6-1298BDF6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7A97-B19E-4868-90D9-F8371267F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276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860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728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276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860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0D95-5EBB-477C-A585-3EE56B34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4829-84A6-446E-8C83-B842C23FE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A0EE-5A9B-44D8-840B-0C8C849F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0F7B-EC01-448E-8744-01DB548C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01F9-4FA6-4BC2-B6FF-99D25FFB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765A-126F-4A2D-B0AA-55486B37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864216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BA1D-5E52-44F7-A3E1-BE178093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57DB-18FF-4D36-82D5-94EF026D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F0B9-46EB-4D09-81A9-8DB347A8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B47D-E060-4EC8-A903-F65C7E31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BD29-CEC8-4A34-A1CF-C9FF8E4D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5EBA-BFC1-4CC1-9A9D-B7F13C41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27C1-776B-4AD9-B1AB-40DF55617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276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860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728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2276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860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26B5-75A3-4303-BEAC-9C4C9FD27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6A6A-1022-4763-BF6A-CBF79815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C527-F8EF-4CC7-BD4B-158DCF14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6AFA-161E-4D59-AA93-62534F8A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864216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D764-46EE-4D42-A7E6-A5930572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C656-6AEB-49E6-9580-A7A1365E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C61E-225A-4892-9E99-E10A253A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1F1E-CDB4-45D7-BC9D-AD94A15A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0F9B-86BF-4025-B11E-28C7A05CE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00CE-7FFA-417D-9C36-FDA4269869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lideshare.net/metodicar4/list-12009603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grb"/>
          <p:cNvPicPr/>
          <p:nvPr/>
        </p:nvPicPr>
        <p:blipFill>
          <a:blip r:embed="rId1"/>
          <a:stretch/>
        </p:blipFill>
        <p:spPr>
          <a:xfrm>
            <a:off x="301680" y="266760"/>
            <a:ext cx="527040" cy="3794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Завод за унапређивање образовања и васпит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108000" y="1341360"/>
            <a:ext cx="2879640" cy="3959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утор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аставни предме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зрас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3059280" y="1341360"/>
            <a:ext cx="5976720" cy="3959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јан Бошковић, О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Иво Андрић“, Беог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Љиљана Рајчић, О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Иво Андрић“, Беог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лан Андрић, О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Иво Андрић“, Беог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ологија, математика и ликовна кул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т у биологији, математици и ум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ти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1905120" y="5791320"/>
            <a:ext cx="1655640" cy="934920"/>
          </a:xfrm>
          <a:prstGeom prst="wedgeRoundRectCallout">
            <a:avLst>
              <a:gd name="adj1" fmla="val -77421"/>
              <a:gd name="adj2" fmla="val -40152"/>
              <a:gd name="adj3" fmla="val 16667"/>
            </a:avLst>
          </a:prstGeom>
          <a:solidFill>
            <a:srgbClr val="ffff99">
              <a:alpha val="63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Verdana"/>
              </a:rPr>
              <a:t>Кликните овде за унос приказа часа у </a:t>
            </a: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Word </a:t>
            </a:r>
            <a:r>
              <a:rPr b="0" lang="sr-CS" sz="1200" spc="-1" strike="noStrike">
                <a:solidFill>
                  <a:srgbClr val="000000"/>
                </a:solidFill>
                <a:latin typeface="Verdana"/>
              </a:rPr>
              <a:t>документ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8"/>
          <p:cNvGraphicFramePr/>
          <p:nvPr/>
        </p:nvGraphicFramePr>
        <p:xfrm>
          <a:off x="1530360" y="1393920"/>
          <a:ext cx="6083280" cy="407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1393920"/>
                    <a:ext cx="6083280" cy="40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17"/>
          <p:cNvSpPr/>
          <p:nvPr/>
        </p:nvSpPr>
        <p:spPr>
          <a:xfrm>
            <a:off x="6732720" y="6453360"/>
            <a:ext cx="24112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Креативна школа 201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/1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9"/>
          <p:cNvGraphicFramePr/>
          <p:nvPr/>
        </p:nvGraphicFramePr>
        <p:xfrm>
          <a:off x="357120" y="5500800"/>
          <a:ext cx="1440000" cy="12142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1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7120" y="5500800"/>
                    <a:ext cx="144000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О ра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484280" y="1357200"/>
            <a:ext cx="74898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У савременом свету је критичко мишљење више од потребе. Научним незнањем се манипулише, а сама наука се котира ниже него што то заслужује. Ми смо уверени да школа треба да поврати углед науци и да развија критичко мишљење. И уверени смо да се оба циља постижу интердисциплинарним приступом, а који обезбеђује сагледавање проблема из више углова. Уосталом, разлог за некритичко мишљење је површно прихватање само једног гледиш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Наша тема рада је лист, али се надамо да ће бити схваћена као пример. Јер, сваки објекат, појава или процес треба бити сагледан управо на овај начин; кроз потпуни и прожимајући метод и садржај више наука (у нашем случају биологије и математике), уз креативност коју нуде уметности (у нашем случају ликовна култур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C:\Users\Deki\Desktop\leaf.gif"/>
          <p:cNvPicPr/>
          <p:nvPr/>
        </p:nvPicPr>
        <p:blipFill>
          <a:blip r:embed="rId1"/>
          <a:stretch/>
        </p:blipFill>
        <p:spPr>
          <a:xfrm>
            <a:off x="6286680" y="357120"/>
            <a:ext cx="221436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Апстракт – први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484280" y="1357200"/>
            <a:ext cx="74898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На првом часу уз биолош</a:t>
            </a:r>
            <a:r>
              <a:rPr b="0" lang="sr-RS" sz="1600" spc="-1" strike="noStrike">
                <a:solidFill>
                  <a:srgbClr val="000000"/>
                </a:solidFill>
                <a:latin typeface="Arial Black"/>
              </a:rPr>
              <a:t>ко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предавање о листу на ПП презентацији (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 Black"/>
                <a:hlinkClick r:id="rId1"/>
              </a:rPr>
              <a:t>http://www.slideshare.net/metodicar4/list-12009603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), ђаци су дисековали лист; посматрали га и проучавали, те на тај начин одмах примењивали знања која су им презентова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Након тога је уследило кратко предавање из математике. Наизглед неспојиве теме, брзо су постале очигледно повезане; ђаци су излазили на таблу и на примерима фигура одређивали осу симетрије. Убрзо је и лишће које су до тада проучавали са биолошког угла, постало фигура која има или нема осу симетриј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Веза је успостављена. :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E:\biljke\slike1\list2 (Copy).JPG"/>
          <p:cNvPicPr/>
          <p:nvPr/>
        </p:nvPicPr>
        <p:blipFill>
          <a:blip r:embed="rId2"/>
          <a:stretch/>
        </p:blipFill>
        <p:spPr>
          <a:xfrm>
            <a:off x="6381720" y="4786200"/>
            <a:ext cx="26193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Апстракт – други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484280" y="1214280"/>
            <a:ext cx="344484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Други час је замишљен као радионица – биолошко-математичка. Новина је што су ђаци добили до тада невиђене радне листове; хербаријуме. На свакој страни хербаријума био је написан задатак који обједињује вежбање одређивања осне симетрије и знања стечена о грађи ли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E:\biljke\slike1\druga.JPG"/>
          <p:cNvPicPr/>
          <p:nvPr/>
        </p:nvPicPr>
        <p:blipFill>
          <a:blip r:embed="rId1"/>
          <a:stretch/>
        </p:blipFill>
        <p:spPr>
          <a:xfrm>
            <a:off x="4929120" y="1214280"/>
            <a:ext cx="3794040" cy="54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Апстракт – трећи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484280" y="1357200"/>
            <a:ext cx="74898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Трећи час је такође била радионица, али овог пута уметничка. Ђаци су подељени у четири групе. Две од тих четири су учествовале у креативном експерименту. Сецкали су облике које су сами направили и лепили на листове биљака у саксији. За домаћи задатак су постали научници који прате промене на листу. Очекивања су да ће лист посветлети на месту где се неколико дана налазио облик, а због губитка хлорофила. На тај начин обновили су знања о улогама ли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Преостале две групе су имале задатак да уочавају грађу листа и да реално или маштовито представе оно што су вид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E:\biljke\slike1\IMG_0587 (Copy).jpg"/>
          <p:cNvPicPr/>
          <p:nvPr/>
        </p:nvPicPr>
        <p:blipFill>
          <a:blip r:embed="rId1"/>
          <a:stretch/>
        </p:blipFill>
        <p:spPr>
          <a:xfrm>
            <a:off x="6000840" y="4572000"/>
            <a:ext cx="2714400" cy="2035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E:\biljke\slike1\IMG_0612 (Copy).jpg"/>
          <p:cNvPicPr/>
          <p:nvPr/>
        </p:nvPicPr>
        <p:blipFill>
          <a:blip r:embed="rId2"/>
          <a:stretch/>
        </p:blipFill>
        <p:spPr>
          <a:xfrm>
            <a:off x="1928880" y="4643280"/>
            <a:ext cx="25002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8:24:37Z</dcterms:created>
  <dc:creator>Milos M.</dc:creator>
  <dc:description/>
  <dc:language>en-US</dc:language>
  <cp:lastModifiedBy>Deki</cp:lastModifiedBy>
  <dcterms:modified xsi:type="dcterms:W3CDTF">2012-03-14T23:10:35Z</dcterms:modified>
  <cp:revision>15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31071033</vt:lpwstr>
  </property>
</Properties>
</file>