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A1E-5883-4892-98AC-6697A9BB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0D7-263A-4178-9908-4A645B02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1BD-9453-45AD-939A-BFA2DCE3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643-527B-4BEB-A38D-A7D4819D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9DAC-450B-440C-A5BB-2893F234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A6C2-4190-4E50-9818-B4B2C9A1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1CB3-471F-4CC7-A714-190B8908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E671-8FF0-4A80-9F09-C57105C9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6A8C-CCAA-483A-82C7-7D7F0924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2F3C-43C6-4949-9AD3-0728E319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9090-907B-4A81-9045-F8E6118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592-C8AC-4A37-A044-AF62F3AF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6FEF-E22C-4085-BB1E-3249B61E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36DF-3231-435D-8AAB-54F934CA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8A6E-535B-456A-B19D-FF0B28B8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0E5A-7F00-48DF-B3D3-7B4CDC68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0AA2-24F0-467B-9F31-1E8EA3A8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080-F375-4899-B87B-964BE930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957-9AE3-424A-9897-A92EC0D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B36-565B-49C3-BD9B-76F900E1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E5C-1465-4406-890D-4862887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D8E-76EB-482D-9955-FD5FF00A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210-F182-4E48-9E7E-15B5049E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E98-7B52-48E8-9C8F-D998868B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1E8B-A994-4CAB-9DD3-1FD2EBAD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86E-58F6-48D7-B761-3330243507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lideshare.net/metodicar4/list-1200960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rb"/>
          <p:cNvPicPr/>
          <p:nvPr/>
        </p:nvPicPr>
        <p:blipFill>
          <a:blip r:embed="rId1"/>
          <a:stretch/>
        </p:blipFill>
        <p:spPr>
          <a:xfrm>
            <a:off x="301680" y="266760"/>
            <a:ext cx="527040" cy="37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ан Бошков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иљана Рајч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ан Андр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ја, математика и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 биологији, математици и ум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30360" y="1393920"/>
          <a:ext cx="60832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393920"/>
                    <a:ext cx="60832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7"/>
          <p:cNvSpPr/>
          <p:nvPr/>
        </p:nvSpPr>
        <p:spPr>
          <a:xfrm>
            <a:off x="6732720" y="6453360"/>
            <a:ext cx="241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Креативна школа 20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/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357120" y="5500800"/>
          <a:ext cx="1440000" cy="121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500800"/>
                    <a:ext cx="14400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О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484280" y="1357200"/>
            <a:ext cx="7489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У савременом свету је критичко мишљење више од потребе. Научним незнањем се манипулише, а сама наука се котира ниже него што то заслужује. Ми смо уверени да школа треба да поврати углед науци и да развија критичко мишљење. И уверени смо да се оба циља постижу интердисциплинарним приступом, а који обезбеђује сагледавање проблема из више углова. Уосталом, разлог за некритичко мишљење је површно прихватање само једног гледиш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ша тема рада је лист, али се надамо да ће бити схваћена као пример. Јер, сваки објекат, појава или процес треба бити сагледан управо на овај начин; кроз потпуни и прожимајући метод и садржај више наука (у нашем случају биологије и математике), уз креативност коју нуде уметности (у нашем случају ликовна култу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Deki\Desktop\leaf.gif"/>
          <p:cNvPicPr/>
          <p:nvPr/>
        </p:nvPicPr>
        <p:blipFill>
          <a:blip r:embed="rId1"/>
          <a:stretch/>
        </p:blipFill>
        <p:spPr>
          <a:xfrm>
            <a:off x="6286680" y="357120"/>
            <a:ext cx="22143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прв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 првом часу уз биолош</a:t>
            </a:r>
            <a:r>
              <a:rPr b="0" lang="sr-RS" sz="16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предавање о листу на ПП презентацији (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Black"/>
                <a:hlinkClick r:id="rId1"/>
              </a:rPr>
              <a:t>http://www.slideshare.net/metodicar4/list-12009603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, ђаци су дисековали лист; посматрали га и проучавали, те на тај начин одмах примењивали знања која су им презентов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кон тога је уследило кратко предавање из математике. Наизглед неспојиве теме, брзо су постале очигледно повезане; ђаци су излазили на таблу и на примерима фигура одређивали осу симетрије. Убрзо је и лишће које су до тада проучавали са биолошког угла, постало фигура која има или нема осу симетр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Веза је успостављена.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iljke\slike1\list2 (Copy).JPG"/>
          <p:cNvPicPr/>
          <p:nvPr/>
        </p:nvPicPr>
        <p:blipFill>
          <a:blip r:embed="rId2"/>
          <a:stretch/>
        </p:blipFill>
        <p:spPr>
          <a:xfrm>
            <a:off x="6381720" y="47862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друг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84280" y="1214280"/>
            <a:ext cx="3444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руги час је замишљен као радионица – биолошко-математичка. Новина је што су ђаци добили до тада невиђене радне листове; хербаријуме. На свакој страни хербаријума био је написан задатак који обједињује вежбање одређивања осне симетрије и знања стечена о грађи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biljke\slike1\druga.JPG"/>
          <p:cNvPicPr/>
          <p:nvPr/>
        </p:nvPicPr>
        <p:blipFill>
          <a:blip r:embed="rId1"/>
          <a:stretch/>
        </p:blipFill>
        <p:spPr>
          <a:xfrm>
            <a:off x="4929120" y="1214280"/>
            <a:ext cx="3794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трећ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Трећи час је такође била радионица, али овог пута уметничка. Ђаци су подељени у четири групе. Две од тих четири су учествовале у креативном експерименту. Сецкали су облике које су сами направили и лепили на листове биљака у саксији. За домаћи задатак су постали научници који прате промене на листу. Очекивања су да ће лист посветлети на месту где се неколико дана налазио облик, а због губитка хлорофила. На тај начин обновили су знања о улогама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еостале две групе су имале задатак да уочавају грађу листа и да реално или маштовито представе оно што су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biljke\slike1\IMG_0587 (Copy).jpg"/>
          <p:cNvPicPr/>
          <p:nvPr/>
        </p:nvPicPr>
        <p:blipFill>
          <a:blip r:embed="rId1"/>
          <a:stretch/>
        </p:blipFill>
        <p:spPr>
          <a:xfrm>
            <a:off x="6000840" y="457200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biljke\slike1\IMG_0612 (Copy).jpg"/>
          <p:cNvPicPr/>
          <p:nvPr/>
        </p:nvPicPr>
        <p:blipFill>
          <a:blip r:embed="rId2"/>
          <a:stretch/>
        </p:blipFill>
        <p:spPr>
          <a:xfrm>
            <a:off x="1928880" y="4643280"/>
            <a:ext cx="2500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dc:language>en-US</dc:language>
  <cp:lastModifiedBy>Deki</cp:lastModifiedBy>
  <dcterms:modified xsi:type="dcterms:W3CDTF">2012-03-14T23:10:35Z</dcterms:modified>
  <cp:revision>1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